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1AB-89CE-446E-B06F-A51119AA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74F-56AA-4888-9AE8-8C342908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8B3-1608-4D94-9FCE-CB06CE26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40E-DD94-4D5E-BAFB-CF45004D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7BBD-21A3-4827-B2F0-85285127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5E93-1072-4C55-BADB-5FA60D49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A2F0-0A4D-4458-A985-E42FC307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483E-2234-4C05-8AB8-F12F3CE5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4390-C9EE-44ED-BE81-6F90DD9F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C120-6857-41FE-A930-C2EA4AF6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73E6-A5D2-4DE5-9F05-B177FC08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0CE-97D5-49E9-BE16-94840501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FE92-5AFE-4B20-8F9D-6CFC5D0D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4A3D-AF60-4A07-9286-2EAA54B3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C632-27F4-450E-AB99-6350CDDD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C964-A412-4ECF-8937-3B051EDA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55A6-24C0-4033-8011-DAB3BFDF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D66-C032-4CEC-B079-DB2D6106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1592-FC65-4E8A-AEE9-428DFBE6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FD97-D0C0-414A-A654-D5DFCB28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5D50-99BA-4ED3-806F-FE77D6E6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A16-EB9B-4195-B96E-E3B87D90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941-6266-4D8A-BB19-2DF7D3B7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95C-440B-4919-8335-5802C064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62DD-4DDB-44FD-94C2-9A5455D1C5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46F1-41EF-4792-8ECC-24619EEA11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onelyplanet.com/maps/africa/egypt/map_of_egypt.jpg" TargetMode="External"/><Relationship Id="rId2" Type="http://schemas.openxmlformats.org/officeDocument/2006/relationships/hyperlink" Target="http://www.dolittler.com/img/enclosures/Nile-river.jpg" TargetMode="External"/><Relationship Id="rId3" Type="http://schemas.openxmlformats.org/officeDocument/2006/relationships/hyperlink" Target="http://news.bbc.co.uk/1/hi/world/middle_east/country_profiles/737642.stm#facts" TargetMode="External"/><Relationship Id="rId4" Type="http://schemas.openxmlformats.org/officeDocument/2006/relationships/hyperlink" Target="http://lexicorient.com/e.o/nile_delta.htm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167652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Franklin Gothic Medium Cond"/>
              </a:rPr>
              <a:t>Egy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-228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Franklin Gothic Medium Cond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Franklin Gothic Medium Cond"/>
              </a:rPr>
              <a:t>Carly Be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Franklin Gothic Medium Cond"/>
              </a:rPr>
              <a:t>Matt 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 Cond"/>
              </a:rPr>
              <a:t>Culture Continued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 Cond"/>
              </a:rPr>
              <a:t>Many of the women in Egypt wear head scarves demonstrating either modesty or Muslim pi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 Cond"/>
              </a:rPr>
              <a:t>Egyptian food was cooked in simple clay pots, using wooden utensils and stored in j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 Cond"/>
              </a:rPr>
              <a:t>Beer was the national drink, made from the crops of barl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 Cond"/>
              </a:rPr>
              <a:t>Bread was the staple food of most Egypti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102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 Cond"/>
              </a:rPr>
              <a:t>Places to Vis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Red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Alexa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Coral and Fish in the Red Sea of Egypt"/>
          <p:cNvPicPr/>
          <p:nvPr/>
        </p:nvPicPr>
        <p:blipFill>
          <a:blip r:embed="rId1"/>
          <a:stretch/>
        </p:blipFill>
        <p:spPr>
          <a:xfrm>
            <a:off x="4952880" y="533520"/>
            <a:ext cx="3781440" cy="3493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 Cond"/>
              </a:rPr>
              <a:t>Works Sit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767ff"/>
                </a:solidFill>
                <a:uFillTx/>
                <a:latin typeface="Franklin Gothic Medium Cond"/>
                <a:hlinkClick r:id="rId1"/>
              </a:rPr>
              <a:t>http://www.lonelyplanet.com/maps/africa/egypt/map_of_egypt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767ff"/>
                </a:solidFill>
                <a:uFillTx/>
                <a:latin typeface="Franklin Gothic Medium Cond"/>
                <a:hlinkClick r:id="rId2"/>
              </a:rPr>
              <a:t>http://www.dolittler.com/img/enclosures/Nile-river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767ff"/>
                </a:solidFill>
                <a:uFillTx/>
                <a:latin typeface="Franklin Gothic Medium Cond"/>
                <a:hlinkClick r:id="rId3"/>
              </a:rPr>
              <a:t>http://news.bbc.co.uk/1/hi/world/middle_east/country_profiles/737642.stm#f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767ff"/>
                </a:solidFill>
                <a:uFillTx/>
                <a:latin typeface="Franklin Gothic Medium Cond"/>
                <a:hlinkClick r:id="rId4"/>
              </a:rPr>
              <a:t>http://lexicorient.com/e.o/nile_delta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 Cond"/>
              </a:rPr>
              <a:t>http://www.goegypt.net/aboutegy/geo/natural_resourc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 Cond"/>
              </a:rPr>
              <a:t>http://encarta.msn.com/text_761557408___2/egyp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 Cond"/>
              </a:rPr>
              <a:t>https://www.cia.gov/library/publications/the-world-factbook/geos/eg.html#E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 Cond"/>
              </a:rPr>
              <a:t>http://travel.nationalgeographic.com/places/countries/country_egyp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ask-aladdin.com/culture1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ask-aladdin.com/pyramid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 Cond"/>
              </a:rPr>
              <a:t>L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 Cond"/>
              </a:rPr>
              <a:t>Lo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Between Libya and the N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 Cond"/>
              </a:rPr>
              <a:t>il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 Cond"/>
              </a:rPr>
              <a:t>Water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Nil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Franklin Gothic Medium Cond"/>
              </a:rPr>
              <a:t>4,000 miles lo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Franklin Gothic Medium Cond"/>
              </a:rPr>
              <a:t>156,776.4 gallons of w</a:t>
            </a:r>
            <a:r>
              <a:rPr b="0" lang="en-US" sz="2900" spc="-1" strike="noStrike">
                <a:solidFill>
                  <a:srgbClr val="ffffff"/>
                </a:solidFill>
                <a:latin typeface="Franklin Gothic Medium Cond"/>
              </a:rPr>
              <a:t>ater per da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 Cond"/>
              </a:rPr>
              <a:t>Natural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 Cond"/>
              </a:rPr>
              <a:t>Egypt's most valuable mineral resource is oil, although the country also has gold deposits as well as iron ore, manganese, phosphates and uran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 Cond"/>
              </a:rPr>
              <a:t>Nile Del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Half of Egypt's population live 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The delta has been formed through deposits through tens of thousands of years by the N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Originally, the delta had 7 equal tributaries; today two of them dominate, the Rosetta and the Damietta riv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 Cond"/>
              </a:rPr>
              <a:t>Climate and Vege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a hot season from May to Septembe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a cool season from November to March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coastal regions average annual temperatures range from a maximum of 99°F to a minimum of 57°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Veg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The vegetation of Egypt is confined largely to the Nile Delta like the date palm, sycamore, tamarisk, acacia, and carob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 Cond"/>
              </a:rPr>
              <a:t>Govern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Political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Muhammad Hosni Mubarak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Republic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Life expect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69 years (men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74 years (women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76.8 million (200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Egyptian President Hosni Mubarak"/>
          <p:cNvPicPr/>
          <p:nvPr/>
        </p:nvPicPr>
        <p:blipFill>
          <a:blip r:embed="rId1"/>
          <a:stretch/>
        </p:blipFill>
        <p:spPr>
          <a:xfrm>
            <a:off x="5791320" y="1752480"/>
            <a:ext cx="2577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 Cond"/>
              </a:rPr>
              <a:t>Histo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Wrote in hierogly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Built pyram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Flourishing trade country during their highest economic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British troops take control of Egypt in 18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1936- British withdrawals all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Muslim Brotherhood members found in military sent to j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 Cond"/>
              </a:rPr>
              <a:t>Current Ev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Medium Cond"/>
              </a:rPr>
              <a:t>Egypt releases jailed opposition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 Cond"/>
              </a:rPr>
              <a:t>Econom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The Egyptian economy is the second largest in the Arab world after Saudi Arab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Main 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anklin Gothic Medium Cond"/>
              </a:rPr>
              <a:t>Petroleum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anklin Gothic Medium Cond"/>
              </a:rPr>
              <a:t>petroleum produ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anklin Gothic Medium Cond"/>
              </a:rPr>
              <a:t>Cott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Literacy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anklin Gothic Medium Cond"/>
              </a:rPr>
              <a:t>5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anklin Gothic Medium Cond"/>
              </a:rPr>
              <a:t>Egyptian Pou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191120" y="2971800"/>
            <a:ext cx="43146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 Cond"/>
              </a:rPr>
              <a:t>Cult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Arab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Englis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Fren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Reli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Sunni Musli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Coptic Christi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The Pyramids of Giza"/>
          <p:cNvPicPr/>
          <p:nvPr/>
        </p:nvPicPr>
        <p:blipFill>
          <a:blip r:embed="rId1"/>
          <a:stretch/>
        </p:blipFill>
        <p:spPr>
          <a:xfrm>
            <a:off x="3809880" y="1752480"/>
            <a:ext cx="49150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41:54Z</dcterms:created>
  <dc:creator>carlyrbecker</dc:creator>
  <dc:description/>
  <dc:language>en-US</dc:language>
  <cp:lastModifiedBy>McFaddeR</cp:lastModifiedBy>
  <dcterms:modified xsi:type="dcterms:W3CDTF">2009-03-16T11:49:38Z</dcterms:modified>
  <cp:revision>24</cp:revision>
  <dc:subject/>
  <dc:title>Egypt</dc:title>
</cp:coreProperties>
</file>